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83E-6133-4D69-98E0-EF821270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96E-1DE2-4E0F-98D4-15FA005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198-543B-4802-80BD-27DE180C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1A5-16C1-4A5D-8E7A-DDFA132E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416-6B27-4E9A-8390-33E2026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DBA-C78C-4666-9D3E-CBDC8AD7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8E1-2B8A-4DA0-BEDA-F2C3B6A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598-13FB-47E1-B59A-ED1A9F00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E2C-43DA-4128-9BE2-90C6C848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CA8-1C91-4370-8E2E-C5DDF34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036-8E22-4D76-880E-B688CCA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F24-A8A7-4772-865F-CC33703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B51-9DC7-426D-BA3C-17C392797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hotodreamstudio.ru/gal-01/gal-01-0011.jpg"/>
          <p:cNvPicPr/>
          <p:nvPr/>
        </p:nvPicPr>
        <p:blipFill>
          <a:blip r:embed="rId1"/>
          <a:stretch/>
        </p:blipFill>
        <p:spPr>
          <a:xfrm>
            <a:off x="785880" y="0"/>
            <a:ext cx="7619760" cy="54291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3000240" y="5786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500720" y="35712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адеваю я сбрую богатырск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е убьёт меня в ней ни копьё, ни стрела, ни вра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Заговариваю я ратного человека Добрыню, крепким загов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о, чур слову конец, делу ве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Людмила\Desktop\БОГАТЫРИ\126518.jpg"/>
          <p:cNvPicPr/>
          <p:nvPr/>
        </p:nvPicPr>
        <p:blipFill>
          <a:blip r:embed="rId1"/>
          <a:stretch/>
        </p:blipFill>
        <p:spPr>
          <a:xfrm>
            <a:off x="142920" y="357120"/>
            <a:ext cx="4357800" cy="607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Подчерк 15"/>
          <p:cNvPicPr/>
          <p:nvPr/>
        </p:nvPicPr>
        <p:blipFill>
          <a:blip r:embed="rId2"/>
          <a:stretch/>
        </p:blipFill>
        <p:spPr>
          <a:xfrm>
            <a:off x="5643720" y="5000760"/>
            <a:ext cx="26017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G:\Людмила\КОНФЕРЕНЦИЯ\ДЛЯ ПРЕЗЕНТАЦИИ\2164842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664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Людмила\Desktop\БОГАТЫРИ\post-42474-1195998351.jpg"/>
          <p:cNvPicPr/>
          <p:nvPr/>
        </p:nvPicPr>
        <p:blipFill>
          <a:blip r:embed="rId2"/>
          <a:stretch/>
        </p:blipFill>
        <p:spPr>
          <a:xfrm>
            <a:off x="5429160" y="3071880"/>
            <a:ext cx="37148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kursk-sestry.ru/FON/svitok2.png"/>
          <p:cNvPicPr/>
          <p:nvPr/>
        </p:nvPicPr>
        <p:blipFill>
          <a:blip r:embed="rId1"/>
          <a:stretch/>
        </p:blipFill>
        <p:spPr>
          <a:xfrm>
            <a:off x="928800" y="142920"/>
            <a:ext cx="7143480" cy="6572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00120" y="1654560"/>
            <a:ext cx="6143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щищать свою Родину, беречь её. Защищать слабых, бедных, стариков и детей. Быть сильными, храбрыми, мужественными, отважными. Любить свою родную землю, свой народ, свою страну и свою Ро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200" y="29772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ильные, могучие богат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славной Ру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 скакать врагам по нашей земл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 топтать их кон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емлю русскую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лава русской стар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лава русской сторо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Людмила\Desktop\БОГАТЫРИ\IM7.jpg"/>
          <p:cNvPicPr/>
          <p:nvPr/>
        </p:nvPicPr>
        <p:blipFill>
          <a:blip r:embed="rId1"/>
          <a:stretch/>
        </p:blipFill>
        <p:spPr>
          <a:xfrm>
            <a:off x="4714920" y="1571760"/>
            <a:ext cx="4214880" cy="507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Подчерк 15"/>
          <p:cNvPicPr/>
          <p:nvPr/>
        </p:nvPicPr>
        <p:blipFill>
          <a:blip r:embed="rId2"/>
          <a:stretch/>
        </p:blipFill>
        <p:spPr>
          <a:xfrm>
            <a:off x="1143000" y="5000760"/>
            <a:ext cx="260208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obr3[1]"/>
          <p:cNvPicPr/>
          <p:nvPr/>
        </p:nvPicPr>
        <p:blipFill>
          <a:blip r:embed="rId1"/>
          <a:stretch/>
        </p:blipFill>
        <p:spPr>
          <a:xfrm>
            <a:off x="1000080" y="571680"/>
            <a:ext cx="6929640" cy="5197320"/>
          </a:xfrm>
          <a:prstGeom prst="rect">
            <a:avLst/>
          </a:prstGeom>
          <a:ln w="0">
            <a:noFill/>
          </a:ln>
        </p:spPr>
      </p:pic>
      <p:pic>
        <p:nvPicPr>
          <p:cNvPr id="94" name="Цветы - Богатырская сила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2960" y="60721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3985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frame12_var1[1]"/>
          <p:cNvPicPr/>
          <p:nvPr/>
        </p:nvPicPr>
        <p:blipFill>
          <a:blip r:embed="rId1"/>
          <a:stretch/>
        </p:blipFill>
        <p:spPr>
          <a:xfrm>
            <a:off x="250920" y="472428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rame12_var1[1]"/>
          <p:cNvPicPr/>
          <p:nvPr/>
        </p:nvPicPr>
        <p:blipFill>
          <a:blip r:embed="rId2"/>
          <a:stretch/>
        </p:blipFill>
        <p:spPr>
          <a:xfrm>
            <a:off x="7072200" y="471492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artonline.ru/paintings/Eksee/ruspravoslavnaya2.jpg"/>
          <p:cNvPicPr/>
          <p:nvPr/>
        </p:nvPicPr>
        <p:blipFill>
          <a:blip r:embed="rId3"/>
          <a:stretch/>
        </p:blipFill>
        <p:spPr>
          <a:xfrm>
            <a:off x="928800" y="0"/>
            <a:ext cx="735804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357280" y="571752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o2.imgsmail.ru/imgpreview?key=http%3A//minnation.senat.org/minnat/slovenis.jpg&amp;mb=imgdb_preview_208"/>
          <p:cNvPicPr/>
          <p:nvPr/>
        </p:nvPicPr>
        <p:blipFill>
          <a:blip r:embed="rId1"/>
          <a:stretch/>
        </p:blipFill>
        <p:spPr>
          <a:xfrm>
            <a:off x="357120" y="214200"/>
            <a:ext cx="5715000" cy="6286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215040" y="114300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лавя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kursk-sestry.ru/FON/svitok2.png"/>
          <p:cNvPicPr/>
          <p:nvPr/>
        </p:nvPicPr>
        <p:blipFill>
          <a:blip r:embed="rId1"/>
          <a:stretch/>
        </p:blipFill>
        <p:spPr>
          <a:xfrm>
            <a:off x="928800" y="142920"/>
            <a:ext cx="7143480" cy="65721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214800" y="1000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Богаты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286000" y="1714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рой русских былин, совершающий подвиги во имя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безмерной силы, стойкости, отваги. Необычный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Подчерк 15"/>
          <p:cNvPicPr/>
          <p:nvPr/>
        </p:nvPicPr>
        <p:blipFill>
          <a:blip r:embed="rId2"/>
          <a:stretch/>
        </p:blipFill>
        <p:spPr>
          <a:xfrm>
            <a:off x="3000240" y="6000840"/>
            <a:ext cx="260208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-928800" y="516240"/>
            <a:ext cx="85726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ён, как вольный вет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ч, как ураг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щищает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злобных басурма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силой доброю бог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щищает стольный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асает бедных и де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    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ариков, и мате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Людмила\Desktop\БОГАТЫРИ\30-143.jpg"/>
          <p:cNvPicPr/>
          <p:nvPr/>
        </p:nvPicPr>
        <p:blipFill>
          <a:blip r:embed="rId1"/>
          <a:stretch/>
        </p:blipFill>
        <p:spPr>
          <a:xfrm>
            <a:off x="6000840" y="2500200"/>
            <a:ext cx="3143160" cy="435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Подчерк 15"/>
          <p:cNvPicPr/>
          <p:nvPr/>
        </p:nvPicPr>
        <p:blipFill>
          <a:blip r:embed="rId2"/>
          <a:stretch/>
        </p:blipFill>
        <p:spPr>
          <a:xfrm>
            <a:off x="1214280" y="4857840"/>
            <a:ext cx="260208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1000080" y="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Виктор Михайлович Васнецов                               «Богатыр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Людмила\Desktop\БОГАТЫРИ\163500.jpg"/>
          <p:cNvPicPr/>
          <p:nvPr/>
        </p:nvPicPr>
        <p:blipFill>
          <a:blip r:embed="rId1"/>
          <a:stretch/>
        </p:blipFill>
        <p:spPr>
          <a:xfrm>
            <a:off x="428760" y="1285920"/>
            <a:ext cx="8286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4767120"/>
            <a:ext cx="8929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857680" y="2142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89960" y="135720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герой, кто з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714920" y="150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714920" y="12859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71680" y="21430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 погибай, а товарища 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000760" y="21430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уч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71680" y="2857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ть – Родин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214800" y="285768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71680" y="35002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астье Родины – дорож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5072040" y="3500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42960" y="42148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ружба велика, будет Роди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572160" y="42148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642960" y="428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шку такую не вяжут, не шьют, ее из колечек железных плет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42960" y="407196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ная шапка с острым конц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переди клюв навис над лиц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Людмила\Desktop\БОГАТЫРИ\КОЛЬЧУГА.jpg"/>
          <p:cNvPicPr/>
          <p:nvPr/>
        </p:nvPicPr>
        <p:blipFill>
          <a:blip r:embed="rId1"/>
          <a:stretch/>
        </p:blipFill>
        <p:spPr>
          <a:xfrm>
            <a:off x="5214960" y="50004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go3.imgsmail.ru/imgpreview?key=http%3A//history-of-wars.ru/uploads/posts/2010-05/1274109734%5F56.jpg&amp;mb=imgdb_preview_302"/>
          <p:cNvPicPr/>
          <p:nvPr/>
        </p:nvPicPr>
        <p:blipFill>
          <a:blip r:embed="rId2"/>
          <a:stretch/>
        </p:blipFill>
        <p:spPr>
          <a:xfrm>
            <a:off x="5572080" y="3500280"/>
            <a:ext cx="2714760" cy="3143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2853360" y="185724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Кольчу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214800" y="5786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Шл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28760" y="35712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ужие это не просто поднять, не просто поднять и в руке удержать. Снести им легко было голову с плеч… Ну, что, догадались?  Конечно ж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285840" y="3721320"/>
            <a:ext cx="57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 грудь защитить от ударов врага, уж вы это знаете наверняка, на левой руке у героя висит тяжелый, блестящий и круглень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karapuz-ik.ru/published/publicdata/KARAPUSHOP/attachments/SC/products_pictures/shit_enl.jpg"/>
          <p:cNvPicPr/>
          <p:nvPr/>
        </p:nvPicPr>
        <p:blipFill>
          <a:blip r:embed="rId1"/>
          <a:stretch/>
        </p:blipFill>
        <p:spPr>
          <a:xfrm>
            <a:off x="5929200" y="357192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ikolyaski.ru/UserFiles/sword-mech-kladenec_govorit-2.jpg"/>
          <p:cNvPicPr/>
          <p:nvPr/>
        </p:nvPicPr>
        <p:blipFill>
          <a:blip r:embed="rId2"/>
          <a:stretch/>
        </p:blipFill>
        <p:spPr>
          <a:xfrm rot="20263200">
            <a:off x="4908600" y="706320"/>
            <a:ext cx="4064040" cy="1704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574080" y="25002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е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0006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Щ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7:44:28Z</dcterms:created>
  <dc:creator>Людмила</dc:creator>
  <dc:description/>
  <dc:language>en-US</dc:language>
  <cp:lastModifiedBy>Виктория</cp:lastModifiedBy>
  <dcterms:modified xsi:type="dcterms:W3CDTF">2021-02-19T05:43:43Z</dcterms:modified>
  <cp:revision>46</cp:revision>
  <dc:subject/>
  <dc:title>Слайд 1</dc:title>
</cp:coreProperties>
</file>